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257-6876-42C0-A7AD-CD36229E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A7C2-FE3B-4106-9C8B-404009C23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826-B293-46BF-ABE8-308E92130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264-5B8F-419A-9453-3DF222DF7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AA6D-E65E-45D2-9B72-70FC53248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653-B1C9-41E4-A6A6-D7A55DE70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D71-707D-40F3-8753-33D1C1902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9028-A21A-4C7B-8FD6-B7E86C2DF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6D0-5B76-49C3-BCED-3814ADA1D8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AB6-5869-4087-8B1E-EB9717FAF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329-AD6A-4170-84E9-4EEC2DF33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224E-A648-4438-AC1F-32C2AB90B1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4BE-7F67-44EF-AA02-673A189EE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15A-F9C0-4AE1-8C51-E85D03556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1E0-7A30-42CC-A3A0-FB68555F5B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AB78-523D-4A82-A7BB-F7A6D06A6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C2F-1ACD-4E97-928A-8207DEE7B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CD8-1B1B-45C7-B277-E00D169EF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0F68-55CA-4C3C-AC88-77EBC4D18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BD0-5F79-4C60-9576-04C0591C3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2A6-9791-495B-AA8B-6E2325CAC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ADB-0637-420F-A803-DB48C318D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EBCB-3D68-4E91-93A2-26CF821DE3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C1B-6FA0-4756-B019-A7671792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539-B5B7-40B0-8F80-61EEA07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E33-ED43-4B1C-A3F2-661FC565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6E6-38CE-4789-A753-8C8BC510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134-F017-4B96-A790-194B63D0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10F2-2BFF-4E64-A40B-B5DA043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585-DF0A-4C62-A399-27E79A6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84CA-11A5-4C72-93AE-0825C6B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EDD1-5606-4BE2-8744-6AA15285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7847-1392-41CA-9E3C-6E587F6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3D6D-870B-4581-AFCD-07106AD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25D-CF6D-41C5-923A-DDE9FB7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198-15FF-4943-9322-E7E74E9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1B8-934D-488D-9705-4A47B35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F1D-7EC9-4E6D-8B8A-B1F303E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19B9-F837-4089-A2DF-73F1E9A7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44B-3469-4C2A-A3B0-7C197316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1BA-CA6B-46EF-BD3F-7657DFD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4D-7737-4120-8ECF-93C19545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86D-475F-4FEE-B170-0348F78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788-FB4D-4E05-BE17-3CABC7C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038-0551-4575-A076-B6F636D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5B0-9003-4D69-A0D3-BF04BEF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AA5-1690-463D-9FB0-40892D8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D08-9B34-447B-93FA-05AB9339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425-895E-407E-9D95-9833F66005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9efee"/>
                </a:solidFill>
                <a:latin typeface="Garamond"/>
              </a:rPr>
              <a:t>Formato RAAB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9efee"/>
                </a:solidFill>
                <a:latin typeface="Garamond"/>
              </a:rPr>
              <a:t>Como Afecta la Medida de AV en la Prevalenci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12960"/>
            <a:ext cx="82296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n promedio en un grupo de 50 pacientes se encuent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1 persona cieg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3 personas con serios impedimentos visuales (SV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ual es la prevalencia de la ceguera y del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  <a:ea typeface="Tahoma"/>
              </a:rPr>
              <a:t>Ceguera: 2%; SVI: 6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al toma de medida  VI: para la misma etiqueta del grup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2 personas cie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2 personas con impedimentos visu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Cual es la prevalencia de la ceguera y del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  <a:ea typeface="Tahoma"/>
              </a:rPr>
              <a:t>Ceguera: 4%; SVI: 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6560" y="0"/>
            <a:ext cx="8282160" cy="4932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3922560" y="71280"/>
            <a:ext cx="4753080" cy="141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000" y="5114880"/>
            <a:ext cx="8640720" cy="1497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xamen cristalino en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od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ojo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on lintern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y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oftalmoscopio direct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ahoma"/>
              </a:rPr>
              <a:t>sin tener en cuenta el estado visu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6560" y="0"/>
            <a:ext cx="8282160" cy="4932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3924360" y="1484280"/>
            <a:ext cx="4824360" cy="3384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68360" y="5043600"/>
            <a:ext cx="8244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Razón de presencia de AV&lt;6/18(20/60) en ambos oj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Marca el problema principal: no examen si AV= 6/18 (20/60) o más en cada ojo: ponga el código =14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03968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20364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2484360" y="465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7308720" y="378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203640" y="5013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8317080" y="1557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6588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68" name="Oval 3"/>
          <p:cNvSpPr/>
          <p:nvPr/>
        </p:nvSpPr>
        <p:spPr>
          <a:xfrm>
            <a:off x="2484360" y="2925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203640" y="2925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2484360" y="4940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308720" y="33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730872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20364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8317080" y="13399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588000" y="39337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8317080" y="33577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79" name="Oval 3"/>
          <p:cNvSpPr/>
          <p:nvPr/>
        </p:nvSpPr>
        <p:spPr>
          <a:xfrm>
            <a:off x="2484360" y="3141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203640" y="2563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484360" y="51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7308720" y="5948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7308720" y="148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320364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8317080" y="19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58800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8317080" y="594828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90" name="Oval 3"/>
          <p:cNvSpPr/>
          <p:nvPr/>
        </p:nvSpPr>
        <p:spPr>
          <a:xfrm>
            <a:off x="248436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320364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248616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730872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7308720" y="133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320364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8317080" y="19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658800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8317080" y="515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034080" y="13644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Garamond"/>
              </a:rPr>
              <a:t>Ejemplo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 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201" name="Oval 3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3203640" y="378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248436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730872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730872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320364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8317080" y="13399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588000" y="33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8317080" y="33577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700360" y="136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Ejemplo</a:t>
            </a:r>
            <a:r>
              <a:rPr b="1" lang="nl-NL" sz="4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212" name="Oval 3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20364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2484360" y="4940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7308720" y="393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7308720" y="148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320364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8317080" y="213192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58800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8317080" y="37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31920" y="13644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Garamond"/>
              </a:rPr>
              <a:t>Ejemplo  </a:t>
            </a:r>
            <a:r>
              <a:rPr b="1" lang="nl-NL" sz="36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Examen Oftalmológic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Refractivo: AV 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ejorando a 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on 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ataratas: AV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no mejorando con pinhole/estenopeico y los cristalinos obviamente opa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Afaquia sin corregir: VA 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con afaquia, mejorando por lo menos en 6/60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200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con 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e hacer si un ojo tuviera discapacidad visual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e hacer si un ojo tuviera diferentes causas de discapacidad visua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La causa más obvia es la princip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9efee"/>
                </a:solidFill>
                <a:latin typeface="Garamond"/>
              </a:rPr>
              <a:t>Notas General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ftalmólogo con asistente para medir todas las AV  (no debe hacerlo el asistente sol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Control de calidad de la medida de AV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Control de calidad de muestre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Roles usu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ftalmólogo llena ficha y observ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l asistente sostiene el cuadro con optotipo 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plicación por el oftalmólogo o por el asist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l oftalmólogo verifica las fichas al final del d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Forma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Llenar con lápiz y borrad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Llenar una ficha por pac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ara cada sección llenar todas las preguntas (no deje nada en blanc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356000" y="0"/>
            <a:ext cx="4753080" cy="465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0920" y="4941720"/>
            <a:ext cx="8640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Detalles sobre una operación de cataratas para pacientes con afaquia o seudofaquia en uno de los oj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56000" y="3284640"/>
            <a:ext cx="4788000" cy="129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50920" y="603576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Refiérase a la sección C y D para determinar la caus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51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0" y="1916280"/>
            <a:ext cx="4356000" cy="2665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47941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ahoma"/>
              </a:rPr>
              <a:t>Barreras para cirugía de catarata en un ojo o en ambo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preguntar ¿“Por que no se ha operado de las cataratas 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  <a:ea typeface="Tahoma"/>
              </a:rPr>
              <a:t>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9efee"/>
                </a:solidFill>
                <a:latin typeface="Garamond"/>
              </a:rPr>
              <a:t>¿Cómo se relaciona la información obtenida al resumen de los datos en el RAAB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825560"/>
          <a:ext cx="9072720" cy="4718160"/>
        </p:xfrm>
        <a:graphic>
          <a:graphicData uri="http://schemas.openxmlformats.org/drawingml/2006/table">
            <a:tbl>
              <a:tblPr/>
              <a:tblGrid>
                <a:gridCol w="1893960"/>
                <a:gridCol w="1814400"/>
                <a:gridCol w="1655640"/>
                <a:gridCol w="1849680"/>
                <a:gridCol w="1859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uevo León, Méj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ío Bío,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p. Dominica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cua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gu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i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bertura de Catara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ala vision post 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rr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gnorante de tratamiento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edo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ntra-ind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gnorante de tratamient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, Imposibilidad de p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mposibilidad de p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19280" y="566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Información Gener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4000" y="407664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uadrados: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un número por cuadr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Línea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scribir el tex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Pequeño círculo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arcar con un asp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RAAB en una área: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scribir nombre del áre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usar código de área 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300320"/>
            <a:ext cx="9144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258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3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580000" y="3933720"/>
            <a:ext cx="324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Historia si no f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xamin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87280" y="620640"/>
            <a:ext cx="3889440" cy="432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4365720"/>
            <a:ext cx="2340000" cy="93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b9efee"/>
                </a:solidFill>
                <a:latin typeface="Garamond"/>
              </a:rPr>
              <a:t>¿Como convencería Ud. a alguien que se rehusara a ser examinado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08000" y="907920"/>
            <a:ext cx="3743280" cy="525780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921120" y="388800"/>
            <a:ext cx="5040360" cy="6357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ntos clave para formulari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encione el uso de anteoj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edida de la vis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ida AV en ambos ojos: primero el derecho y después el izquier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n 4 de 5 respuestas acertadas en cada reglón para marcar como respuesta correc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mience con 6/60 (20/20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se el pinhole/estenopeico AVP&lt;6/18, (20/60) empezando con la última medida tom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4080" y="907920"/>
            <a:ext cx="369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9efee"/>
                </a:solidFill>
                <a:latin typeface="Garamond"/>
              </a:rPr>
              <a:t>La medida precisa de la AV es </a:t>
            </a:r>
            <a:r>
              <a:rPr b="1" lang="es-MX" sz="5400" spc="-1" strike="noStrike" u="sng">
                <a:solidFill>
                  <a:srgbClr val="b9efee"/>
                </a:solidFill>
                <a:uFillTx/>
                <a:latin typeface="Garamond"/>
              </a:rPr>
              <a:t>crucial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Precisión Visua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Verifique condiciones para las medidas de AV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a en la somb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E en la luz, pero no en el brillo sol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Explique correctamente (particularmente el pinho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No se apre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Que el paciente no pestañ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Ajuste fijamente el cuadro 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Si se equivocan, continú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Haga el pinhole test si el  AVP&lt; es 6/18 (20/6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Use primero el optotipo  20/200 (6/6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Por lo general,  con Pinhole al menos tan buena como la AVP - a menudo mucho mej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Times New Roman"/>
                <a:ea typeface="Tahoma"/>
              </a:rPr>
              <a:t>Vislumbrando </a:t>
            </a:r>
            <a:r>
              <a:rPr b="1" lang="es-MX" sz="4400" spc="-1" strike="noStrike">
                <a:solidFill>
                  <a:srgbClr val="b9efee"/>
                </a:solidFill>
                <a:latin typeface="Times New Roman"/>
              </a:rPr>
              <a:t>Problemas</a:t>
            </a: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hacer si 3 de las 5 medidas son correcta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Podría ser la visión pinhole peor que la AV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pasa si no están usando anteojos y los dejaron en la casa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26:06Z</dcterms:created>
  <dc:creator> </dc:creator>
  <dc:description/>
  <dc:language>en-US</dc:language>
  <cp:lastModifiedBy>Hans Limburg</cp:lastModifiedBy>
  <dcterms:modified xsi:type="dcterms:W3CDTF">2012-12-18T21:09:15Z</dcterms:modified>
  <cp:revision>71</cp:revision>
  <dc:subject/>
  <dc:title>Slide 1</dc:title>
</cp:coreProperties>
</file>